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wmf" ContentType="image/x-wmf"/>
  <Override PartName="/ppt/media/image3.png" ContentType="image/png"/>
  <Override PartName="/ppt/media/image17.jpeg" ContentType="image/jpeg"/>
  <Override PartName="/ppt/media/image4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292A0-8B65-4C8B-9057-8295B89A7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29368-6922-4A62-990A-D1CC23D2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B6E09F-1689-427B-B8A7-5B923CBD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76F47-0164-49EF-BB6B-D5F7E080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488DA2-DB5F-499C-B98F-AC5DC103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0E1EE-18AE-488E-9CAB-53929230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AF7C56-6067-4FD2-A72C-61F49233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365AE2-A2F1-478E-8ECE-2CC34344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5A6F27-C0BA-4A95-A2DE-EEBB0D62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C89B07-C5F9-40A2-9F51-36560A89C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CA2BB9-829C-4E6B-8FA4-E42986FBE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F56F49-4B9E-4DE0-8370-51FB5C874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C0285-006E-4B62-AACB-52E5ACE2A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89BAAA-3232-483B-81FD-F4F5A17D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202317-79E2-4C0D-8F3F-CF19FFB3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C93A04-401F-4186-AC70-58E66016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822D2C-1CB5-4BD5-A2C6-3DDB411F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7C80F8-00AE-48D3-86AF-BE32726E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B8B339-6E26-4C38-885A-BCFA2961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66520-7C3F-437A-B9F1-54650FFE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8B602A-D570-449B-8C05-ED69E8E9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493005-7292-4E46-A31F-BAE0708D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521BA2-F750-4D71-9F42-5A6629F1B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F8352-7AB2-4864-B0CF-ABFC28970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60004C-74E2-4701-A54B-D5788A150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13249-9B55-4116-AB9F-BB7CA290B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327F22-DFC0-4F13-949B-929F55C9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FA535-E0D1-4B0F-A3EE-D13ADBE1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D1C9E-B29F-4E29-B28C-54A8A275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11023-D3FF-4B2B-A910-73C6017D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6D696-D9FC-4AA6-91CD-FA467471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195DB-B6E5-424E-876D-555A8950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01475F-52AC-49B6-ABD5-35F890FA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26767F-BC52-4C09-A467-856BC9B4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DA687-15F6-4369-A985-9DF15EA1A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1C0A28-8B96-4588-A1A1-4BDD8E66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E3E6E-14B5-40EE-8FE7-8F9C5AE75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DFDFDB-E4E8-48F4-93A7-E66CCD0AD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F91869-6F32-4739-BDAD-1C0BF369D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107730-15B0-4FDC-964B-92D62580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55568A-1D03-4360-BDCD-A7C8B521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8DABB7-5F38-4378-9756-BF5CE78A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DF48B6-B97C-4677-8C13-527480DB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BB60C4-DBF0-4B99-AC7A-58FA2BD7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753C6C-B652-4E1E-8DE5-7D68290D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0AA7-DDE2-419D-8D3A-3F19D395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E6E440-597B-468E-99CC-A99E86A4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A0D323-740F-4871-8F23-B76E5E8F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C8DEC8-54F2-44A2-9057-DC6BB056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60FC6C-F68B-4E4B-990E-FFFB64B8A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BE0150-2352-41C3-8D39-E7C3729B7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DE3700-E65A-436C-8025-902C6C583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9B189C-C62A-443C-9451-4FE45080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878BC7-B977-400D-B22D-502B9169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B67A60-FE87-4069-8052-933DA539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B2A579-418F-4A44-A71B-EDE850C9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5CB7A-5A60-4231-BBB9-D7226898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D6CE9C-1045-48E5-89BD-34809668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3000AB-1EF6-4FBE-AF5D-FC9A1FCA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FD412B-27F9-41DA-98B2-CD0E4D6B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C65BE2-BC90-4155-BF4D-29055B0E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22F189-9747-4EB9-8D17-52B2B547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6AFA4D-C974-4CA2-AE16-74FBD68C5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332E2D-36CE-4935-BB35-F41D4F29A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C843CD-FC45-404B-AAD7-27B3C57EC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C9EA14-27D7-4D5D-A383-FEC1B8FF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099455-351E-491B-A4FB-25FA019A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71DB-92FF-4746-AD05-5C7B501B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FAB793-9152-46CA-A74D-0ACA8E5B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C060B9-4DEA-4978-A04E-358306136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E66C91-B2AD-410B-A5AB-E2467DE6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013D29-133E-4699-8BC4-8CE97464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F1271A-99A1-47DE-BB95-2F68F8ED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096AFD-B8EE-4D6E-8C0D-F6509C95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54243E-65CB-47DA-8CE3-BC787C01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C002F7-AF77-418E-B9F3-6B10FFD98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48B7FB-91C1-4DCF-BE04-B57206D7A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2DC2192-2631-4AF6-A5C3-9250BD89F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B677-63E4-4CE6-9C33-E4BFCD1F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2CE43D9-1915-4FCF-AD12-455C46F8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7E3221A-972D-4285-B0EE-53446FDB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9BCB775-400C-460B-8694-3D193B9E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B7E276F-0DB1-40B8-9663-B39C50CC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B1E2801-74CA-4D77-B526-5F0941AD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47CFABF-5773-4249-8566-A39778B8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2510BCC-51D9-40D3-9521-40154AA5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B44843C-62F0-44A4-BC41-00FB46BD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2DF0BA3-FDD1-47CA-9530-D2A95CED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2F37C73-0E86-4C96-AE52-B9886760E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CE55-1951-425B-958A-A4A7AFB7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E887A7E-627F-4CF5-9877-BF5CD763F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11923C-01BE-40B9-87ED-FCF926362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2EAB40-456D-437D-B2FF-C595AE25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5D629D-F931-4A4C-A186-921F8591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4E4B7D-A5EB-4D61-A0A8-ADAAD98E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815AE2-0D1B-4790-9532-9406962B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F2F90F-34E3-4798-A55E-6E82913A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FFB65C-7FD7-4872-87A9-3D9AA8FA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616391-4AF4-4B1F-AFF9-D4E62E62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582E39-DAD1-4E77-89CD-08421F17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0BD1-1C48-4911-8A2C-4022A660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8B32B5-AF56-47FF-8FFD-CA647EFA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740F33-47BA-4FB6-A059-E405E88A0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BD733B-5D08-4527-9F1E-24B2FE99A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361BC57-35FD-48E0-8B53-05160C57B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CD5106A-10FF-4B4F-B8FC-20799EDE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29B5ECC-FD94-4511-80C1-EA32FB81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6DB1F13-BBE6-495A-B806-75DC8975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FC6AF43-F6CD-4D7F-B3C3-E5FD6B5C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6BE1E7D-FC87-4D58-BC9F-B128D2F9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0819D7C-BA28-428F-B84F-21DAD182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C36F7-FD46-4276-A8CB-E035B528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7CEE5-B081-4E91-A39A-1D7B7073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FAB3B94-4A13-4BA1-A9CB-BCFC43B9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51421CC-A8F3-497A-B5D9-8BB53911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913D1D2-35D8-4243-B7CD-E70400C2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252F867-8903-4687-9258-8979AA430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EFDB906-A704-41EB-8AE6-F702986AC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09C210-092F-46BF-B3CF-0BD8AC67B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39964B-7E31-4ACA-A38D-C51B7AB7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B4FB65-2DEA-47BD-A72D-64FB5E20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87E69F-534A-4B9D-83BF-612BE3F3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27984E-8D4A-4AFB-A91D-A0B39C94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483D-4902-4B63-A621-3EEB5645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B4F2D4-BBF4-4357-B277-A75644B3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445B00-1314-444A-BCF2-8846FE06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2A1648-2F4D-4458-81B1-4FA4317A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1D5291-30DD-4271-8BB3-A7FA8035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839923-9460-4DA1-A2F8-46D85ABD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94CEDD-25EC-4AB3-80CC-9C220C04B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8BD163-52E5-4765-B3C6-C7BE8D150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9F40B9-607C-474D-8D6A-DB930A43C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FBB45C-BC89-4598-8368-0ADB63DA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CA747A-3F21-4220-80B7-00BDF697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7E49-FCF4-4812-9E58-2ABC5D9F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8B5E0B-C75D-4C30-8026-5FE3C9DE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1D1E2B-B0AA-4690-BA4E-01AB60E1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EA4AF6-834C-4D24-AA15-B0570A4A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1B7B51-BC42-4DEF-9E11-293372BF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814E96-4E8A-4D42-A84E-10E3449D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A7C76A-8EB2-4147-B7FC-0F565395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DD9575-7672-4A3C-A612-4E27CD95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58647C-0B52-4D44-A615-5696BB5AB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2AE8D3-6A81-486A-8D22-D4B7581B3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069939-797A-4A9A-BBFB-C84787247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AC35-C4D9-4BA6-A0C9-0DEAB2099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650366-47CA-4260-A963-E6A7B674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0F2E52-FD64-4616-990D-C1A1497F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804AE7-FD0B-4198-988C-74D1ACB9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E7AA00-0EA0-4CED-BC86-7BCF02BD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72519D-13A9-4D11-982F-F42ADC42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3BF970-7202-4A5C-9984-41BEAD19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1EFD03-9853-40B5-BD96-94B43DF4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8D535F-3CD0-46BE-ADDB-E9518384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2C742D-59F6-4A56-99CB-C5F0DD39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A066E9-9A59-4B95-9E7E-0AFF98B38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21355-D327-4E00-86EA-DC25640FE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389884-7B1B-4585-8D9D-82E252702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2C641-C278-4C25-860E-D17BD98EE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6E8AA-2A80-41F7-9054-2D7A0A4A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56F75-1FC1-4727-AD4C-9684F943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F1041-050A-48C8-A839-85DC61D0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BF267-77D3-41C1-B667-3A5F12EF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09C1B-B3B2-44E4-976B-AC43AD26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D0B6B-32B2-4C8D-9F62-B39BAE1E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47CA1-1E24-46AD-8BA3-38276B3E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AC0AB-DEDE-4EC0-8FB8-77C511CF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4DFD1-C664-4B79-8CBB-AB4AF389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BAD16-BEA1-49AB-9242-3195509B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58F3F-724D-4B62-89EF-8D1756A89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7F7E6-CEE1-4D95-BE17-0A8D7CE84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DA3024-DCFF-4335-9287-ED4182B4C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5EC264-1037-43B5-8316-E1E62D88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577E70-5559-43EE-BC09-9ED8C9CC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E89AE-BEDE-489F-8F7C-23498E2C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85C621-2F00-479B-95C0-6C3D7255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07E51C-CB56-43A5-8194-103E1084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692FCD-8443-47A6-A063-1295FA08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A88E80-85C2-43C6-9F1C-FD802550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476FDF-2BD2-46B7-9986-42EE4287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5871EC-B122-446E-92F6-E2656418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E37B15-21E8-4089-9D81-C6E7A8DF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4438D7-6EC8-4975-8194-7817C55CD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0201B4-433E-4688-A49B-7EC4813A9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8E2DA-5730-4640-99B3-B9AC60536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5EEBD-B850-44FA-9D05-5E00E982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3402F-AD0E-42C2-BA60-BFE709AD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CE3D3-E1AF-4649-ABF9-53BBA8D4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18BB8-344B-46AC-8B7D-6F03B839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653F2-C61A-4DBE-BC46-0E98367C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C4880-1A86-4A8D-9B50-4403544E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4993A-2622-48EA-9600-350B24FA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2D95E-11EF-4E3B-9D3E-EF382A91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466B8-8DF1-43C5-A5B1-603FC015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A543A-56AA-4163-894B-2F4D41BB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A543A-B357-4D8B-8887-6AF585A39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3D2B0-4965-48BD-A311-58B7C748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18CF3-1A43-4FB7-9F24-5DCEB1B41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AB5E4-22EA-453D-8ABC-1A68AF9F5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4B3D0-3100-4964-A40E-70BDADEF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CF418-F53E-4D12-9ACA-8EB64517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2328C-3D82-46EA-8C4E-025D1C6F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3F4F9-F440-48F6-BAF5-E0B08B95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6502A-C530-4401-993C-31DF357D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3E0A5-4324-4591-801A-46F2F9DE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3C179-1B75-49A9-8A42-BF0D6D51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20AE3-2E22-431B-B9A6-539A9682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2A46F-58C2-49B2-AC83-3780E1A0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8381C-5B05-41DF-8377-362829BE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31116-7B0C-486D-8AE3-51C5FDB6F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A339B-CA07-42FC-8064-C4D3A78DF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EEAA7-DD3A-4BB6-88E6-D2614AAF1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A66FF-B460-4850-BE99-31F76D8A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C6827-8FC9-412F-BFDD-95320A62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20D03-DE9F-4C0D-ADEF-B90A0142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50C97-69CE-4517-91B4-A7C4AD4F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DFF3E-6F19-4B35-AB2A-17B76D70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F3B76-028D-40EE-9803-2B128A5B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A000F-1926-46DA-BC02-BD3AC1A5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7A897-4C29-4F73-95F8-BC18784E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3E316-3ADC-4333-A41D-3CF32909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B2697-36E4-4517-B5F4-FEDFCC0A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356E9-9DDB-47C8-864C-7406AD93A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3EACB-A529-4D1C-B65E-F69A154E2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7BD7A-1D1D-49CE-900E-7F7D26247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99D58-2664-464C-B036-A6DA538F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E6BB5-173D-40FA-BBE7-034B4F91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3E0F5-655C-4CD5-9EDF-D16F0C74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9BA58-4664-4966-B21E-DAE9756E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901C0-A402-4C4D-83FA-91C944E7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3D060-19C5-4F86-A34D-3A06F5F8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41C87-1A19-494B-AEF6-44CD71D2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CE5DE-EF1B-4934-B114-AB71DB47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7FEDC-BC43-4790-95B9-C5B638DE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00355-8037-49E1-892A-C05683F7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92841-2631-4D04-A259-CD139610D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68886-19CD-42B7-B68C-60B977DE4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7BD8AD-CA67-422B-8604-F831B0E47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D48185-08AE-4BCF-A191-377CD20D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401F7-6F84-45EB-9286-D9A05CEE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85.xml"/><Relationship Id="rId32" Type="http://schemas.openxmlformats.org/officeDocument/2006/relationships/slideLayout" Target="../slideLayouts/slideLayout86.xml"/><Relationship Id="rId33" Type="http://schemas.openxmlformats.org/officeDocument/2006/relationships/slideLayout" Target="../slideLayouts/slideLayout87.xml"/><Relationship Id="rId34" Type="http://schemas.openxmlformats.org/officeDocument/2006/relationships/slideLayout" Target="../slideLayouts/slideLayout88.xml"/><Relationship Id="rId35" Type="http://schemas.openxmlformats.org/officeDocument/2006/relationships/slideLayout" Target="../slideLayouts/slideLayout89.xml"/><Relationship Id="rId36" Type="http://schemas.openxmlformats.org/officeDocument/2006/relationships/slideLayout" Target="../slideLayouts/slideLayout90.xml"/><Relationship Id="rId37" Type="http://schemas.openxmlformats.org/officeDocument/2006/relationships/slideLayout" Target="../slideLayouts/slideLayout91.xml"/><Relationship Id="rId38" Type="http://schemas.openxmlformats.org/officeDocument/2006/relationships/slideLayout" Target="../slideLayouts/slideLayout92.xml"/><Relationship Id="rId39" Type="http://schemas.openxmlformats.org/officeDocument/2006/relationships/slideLayout" Target="../slideLayouts/slideLayout93.xml"/><Relationship Id="rId40" Type="http://schemas.openxmlformats.org/officeDocument/2006/relationships/slideLayout" Target="../slideLayouts/slideLayout94.xml"/><Relationship Id="rId41" Type="http://schemas.openxmlformats.org/officeDocument/2006/relationships/slideLayout" Target="../slideLayouts/slideLayout95.xml"/><Relationship Id="rId4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1819-2804-4D1D-A60A-906CE3EEF2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6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767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9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F2B6-F7A6-481B-9EBD-2D75211481E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10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8" name="PlaceHolder 1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6AC8-4DFC-4D21-B84E-1CD6919AE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9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860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C246-AA5D-43DF-BC47-73082404B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907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08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37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 type="sldNum" idx="39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A95E-AC3B-42E0-9D42-25E9ABB11E8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951" name="PlaceHolder 1"/>
          <p:cNvSpPr>
            <a:spLocks noGrp="1"/>
          </p:cNvSpPr>
          <p:nvPr>
            <p:ph type="dt" idx="4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 type="sldNum" idx="4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A3D9-BFE6-4F2A-90A2-E19804BD09E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99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 type="ftr" idx="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 type="sldNum" idx="4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C22F-979B-4D30-B01D-F28F73FDE52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 type="dt" idx="4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0BD9-A668-42EF-80CD-22ACB7D3842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117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2" name="PlaceHolder 1"/>
          <p:cNvSpPr>
            <a:spLocks noGrp="1"/>
          </p:cNvSpPr>
          <p:nvPr>
            <p:ph type="sldNum" idx="4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5134-CFFD-412C-B9F7-C7F7B984B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dt" idx="5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 type="ftr" idx="5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3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1374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AC95-61CC-4F1C-8D56-AC1849CAD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9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630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631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44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45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 type="dt" idx="5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7752-CC4C-45A1-8724-094BC1844F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950B-147B-4671-B950-8E48A7FBC4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1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822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823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36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837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 type="dt" idx="58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PlaceHolder 3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PlaceHolder 4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19EC-DC34-4971-BE25-CCE97DCFA96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42EC-2789-4C5C-AA55-58357EB30D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7CE0-5017-4A8C-91EF-6FF93FBBF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8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8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8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8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9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1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6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8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9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2F05-C88D-4B90-B62E-41879FC91E5F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5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5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6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6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6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6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7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7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7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8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8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8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8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9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9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0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0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0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1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1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1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1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2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2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2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3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3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3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3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4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4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4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5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5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5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6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6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6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6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7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6841-FBCC-4BEA-93D5-82FCE5A1ABC1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3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3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3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3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3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4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5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5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7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8517-F0D9-4225-A33F-E467575A24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2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3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3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63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3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3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4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5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5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7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19CA-E6DB-4BF3-AFF3-BF690334C2B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1"/>
    <p:sldLayoutId id="2147483741" r:id="rId32"/>
    <p:sldLayoutId id="2147483742" r:id="rId33"/>
    <p:sldLayoutId id="2147483743" r:id="rId34"/>
    <p:sldLayoutId id="2147483744" r:id="rId35"/>
    <p:sldLayoutId id="2147483745" r:id="rId36"/>
    <p:sldLayoutId id="2147483746" r:id="rId37"/>
    <p:sldLayoutId id="2147483747" r:id="rId38"/>
    <p:sldLayoutId id="2147483748" r:id="rId39"/>
    <p:sldLayoutId id="2147483749" r:id="rId40"/>
    <p:sldLayoutId id="2147483750" r:id="rId41"/>
    <p:sldLayoutId id="2147483751" r:id="rId4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2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723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D212-BF28-4D06-AB75-9B37AAABDF7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7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4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9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Arial Black"/>
              </a:rPr>
              <a:t>La Casa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or: Natalie Feuerma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 Garaje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garaje. Es un grande y lujos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0" name="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518148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Casa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a casa. Es muy grand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6" name="" descr=""/>
          <p:cNvPicPr/>
          <p:nvPr/>
        </p:nvPicPr>
        <p:blipFill>
          <a:blip r:embed="rId2"/>
          <a:stretch/>
        </p:blipFill>
        <p:spPr>
          <a:xfrm>
            <a:off x="914400" y="2971800"/>
            <a:ext cx="480060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La Cocina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Es una cocina. Es magnifico y grande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9" name="" descr=""/>
          <p:cNvPicPr/>
          <p:nvPr/>
        </p:nvPicPr>
        <p:blipFill>
          <a:blip r:embed="rId2"/>
          <a:stretch/>
        </p:blipFill>
        <p:spPr>
          <a:xfrm>
            <a:off x="609480" y="2895480"/>
            <a:ext cx="3962520" cy="29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l Comedor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 comedor. Es bello y lujoso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22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29512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 Sala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a sala. Es una moderna y nuvev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5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396252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 Baño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 b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ñ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. Es un grande y modern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8" name="" descr=""/>
          <p:cNvPicPr/>
          <p:nvPr/>
        </p:nvPicPr>
        <p:blipFill>
          <a:blip r:embed="rId1"/>
          <a:stretch/>
        </p:blipFill>
        <p:spPr>
          <a:xfrm>
            <a:off x="1066680" y="2489040"/>
            <a:ext cx="4419720" cy="29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El Cuarto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cuarto. Es un moderno y bonit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1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4114800" cy="33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El Patio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patio. Es un estupedo, nuevo y lujoso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4" name="" descr=""/>
          <p:cNvPicPr/>
          <p:nvPr/>
        </p:nvPicPr>
        <p:blipFill>
          <a:blip r:embed="rId1"/>
          <a:stretch/>
        </p:blipFill>
        <p:spPr>
          <a:xfrm>
            <a:off x="2743200" y="2514600"/>
            <a:ext cx="4114800" cy="275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l Jardin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 jardin. Es un bonito, lujoso y inc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7" name="" descr=""/>
          <p:cNvPicPr/>
          <p:nvPr/>
        </p:nvPicPr>
        <p:blipFill>
          <a:blip r:embed="rId2"/>
          <a:stretch/>
        </p:blipFill>
        <p:spPr>
          <a:xfrm>
            <a:off x="1143000" y="259092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3:09:46Z</dcterms:created>
  <dc:creator>feuermannat</dc:creator>
  <dc:description/>
  <dc:language>en-US</dc:language>
  <cp:lastModifiedBy>feuermannat</cp:lastModifiedBy>
  <dcterms:modified xsi:type="dcterms:W3CDTF">2013-04-02T12:41:06Z</dcterms:modified>
  <cp:revision>6</cp:revision>
  <dc:subject/>
  <dc:title>La Casa  </dc:title>
</cp:coreProperties>
</file>